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730D-F408-4C83-B7DE-96C80F93CE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file:///../../&#1055;&#1088;&#1080;&#1084;&#1077;&#1088;&#1085;&#1099;&#1077;%20&#1079;&#1072;&#1076;&#1072;&#1085;&#1080;&#1103;%20&#1076;&#1083;&#1103;%20&#1091;&#1095;&#1072;&#1097;&#1080;&#1093;&#1089;&#1103;%20&#1088;&#1072;&#1079;&#1085;&#1086;&#1081;%20&#1089;&#1090;&#1077;&#1087;&#1077;&#1085;&#1080;%20&#1091;&#1089;&#1087;&#1077;&#1074;&#1072;&#1077;&#1084;&#1086;&#1089;&#1090;&#1080;.pptx" TargetMode="External"/><Relationship Id="rId2" Type="http://schemas.openxmlformats.org/officeDocument/2006/relationships/slide" Target="../slides/slide12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через индивидуальную работу по географии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во внеурочное врем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овая работа учителя ге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ая презентация была создана на основе курсовой работы для обеспечения наглядности выступления учителя географии в рамках прохождения учителями естественнонаучных предметов курсовой переподготовки с марта по ноябрь 2008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фии МОУ лицея № 10 города Советска Калининградской области Ширшонковой Елены Нколаев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C97E-7729-484D-8C18-384D3F9E61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развитие познавательной деятельности можно определить как личностное свойство, которое приобретается, закрепляется и развивается в организованном процессе познания с учетом индивидуальных и возрастных особенностей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сновным показателям познавательной активности можно отне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би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еж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знанность 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ие проя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ие в нестандартных учебных ситуациях; самостоятельность в принятии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2C96-56B8-4B15-BB46-154AEA37BF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н А.А. приемы педагогической техники: Свобода выбора. Открытость. Деятельность. Обратная связь. Идеальность: Пособие для учителя – М.: Вита – Пресс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ие технологии: Учебное пособие /Авт.-сост. Т.П. Сальникова. – М.: ТЦ Сфера, 200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ротин В.И. Система географических заданий и упражнений как необходимое условие реализации деятельностного подхода при обучении географии. – М.: «География в школе» № 2/200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урок географии: Методическое разработки уроков / Сост. И.И. Баринова. – М.: Школа – Пресс, 2000 («География в школе». Библиотека журнала. Вып. 3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festival.1september/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6FA3-E687-41DA-AFD4-018F645268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И ЛИЧНОСТНО – ОРИЕНТИРОВАННОГО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ТИЧЕСКОЕ ПЛАНИРОВАНИЕ ИНДИВИДУАЛЬНОЙ РАБОТЫ ПО  ГЕОГРАФИИ ( первое полугодие)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ТИЧЕСКОЕ ПЛАНИРОВАНИЕ ИНДИВИДУАЛЬНОЙ РАБОТЫ ПО  ГЕОГРАФИИ ( второе полугодие)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РНЫ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ЗАДА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ДЛЯ УЧАЩИХСЯ РАЗНОЙ СТЕПЕНИ СЛО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УЛЬТАТЫ  ИНДИВИДУАЛЬНОЙ РАБОТЫ ПО ГЕОГРАФИИ С 2005 ГОДА 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F66E-9617-46BE-9388-A46716965F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ЧЕРЕЗ ИНДИВИДУАЛЬНУЮ РАБОТУ ПО ГЕОГРАФ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ВО ВНЕУРОЧНОЕ ВРЕМ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информационное общество ставит перед школой задачу подготовки социально ориентированных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пускников, которые должны уме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ироваться в меняющихся жизненных ситуациях, самостоятельно приобретая знания, применяя их на практи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и мыслить и находить пути решения возникающих проб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ть работать с информац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свой интеллектуальный и культурный уров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 работы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ать, что развивать познавательный интерес учащихся возможно не только на уроках географии, но и во внеурочное время через индивидуальные зан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E966-BBD6-49EF-B3B4-8D9F918BF7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К ГЕОГРАФИИ ЧЕРЕЗ ИСПОЛЬЗОВАНИЕ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СОВРЕМЕННЫХ ПЕДАГОГИЧЕСКИХ ТЕХНОЛОГИ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к предмету возможно через использование современных педагогических технологий, в том числе через личностно-ориентированное обучение, инновационные и игровые техноло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но-ориентированные технологии ставят в центр всей образовательной системы личность обучаемого, обеспечение комфортных, бесконфликтных условий ее развития, реализацию ее природных потенциалов. Ученик при этом – цель образовательной системы, а не средство достижения чего-либо отвлече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986C-841A-4C46-AAC2-FA2B3550C4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значение в повышении качества географического образования играет умение учителя географии организовать учебную деятельность учащихся по практическому применению имеющихся у них теоретических знаний и самостоятельному получению из различных источников знаний, необходимых им для решения поставленных учебных задач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деятельностного подхода в процессе преподавания географии позволяет добиться высокого качества географического образования и подготовить учащихся к использованию своих географических знаний в реальной жизни и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54DA-C38E-4EAB-B2EA-C5E423011B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ЧЕРЕЗ ИНДИВИДУАЛЬНУЮ РАБОТУ  ПО  ГЕОГРАФИИ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ВО ВНЕУРОЧНОЕ ВРЕМ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стеме современной школы география – единственный предмет, формирующий у школьника комплексное и социально-ориентированное представление о Земле как о планете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е географии – не только общая культура, но и практические умения, необходимые для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ывая особенности современного этапа образования, необходимо целенаправленно активизировать познавательную и мыслительную деятельность учащихся. Этому способствуют универсальные методические приемы и инновационные технологии, которые можно с успехом использовать, как на уроке, так и во внеуроч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2186-BCD8-4328-98AC-48556EBBF4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 дополнительные занятия, часы для которых выделяются Администрацией лицея, имеют своей целью не только развить интерес к предмету у учащихся разного уровня подготовленности, но и подготовку учащихся МОУ лицея № 10 к городским и областным олимпиадам и к городской научно – практической конференции.             Рациональное тематическое планирование позволяет определить основные вопросы каждой темы, наметить наиболее приемлемые для данной темы типы зад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5204-5494-4215-BA55-A04476AE9D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бирая дидактический материал для каждого занятия, я стараюсь учитывать множество факторов, но в первую очередь индивидуальность каждого учащегося. Часы дополнительного индивидуального обучения способствуют установлению доброжелательного межличностного взаимодействия между учителем и учеником. На этих занятиях учащиеся активно высказываются по обсуждаемой теме, предлагают свои варианты, даже если они отличны от мнения учителя. Обсуждая, все вместе коллективно приходим к общему выводу или решению какой-либо проблемы. При использовании современных технологий, учитель, должен обязательно владеть и смежной профессией – профессией психол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1568-F6FB-4963-B1BD-EBFF5F5513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дготовке индивидуальных занятий учитывается не только количество материала, который может преподнести учитель, но и необходимость развивать у учащихся вкус к исследовательской деятельности, склонность к выполнению задания повышенной трудности, способность мыслить творчески, логически, и укреплять уверенность учащихся в своих силах. Важным аспектом является научить школьников работать самостоятельно, не бояться делать собственные 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C7A2-0C59-4F85-AF15-D4E2CDB742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активных методов обучения приводит к изменению привычных форм общения между учителем и учеником. Современные педагогические технологии позволяют каждому ученику принять участие в подготовке и проведении занятия, выступить на каком-то этапе в роли уч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ованная и обоснованная система уроков и дополнительных индивидуальных занятий по географии – важный фактор развития познавательного интереса к предмету, усвоения географической картины мира и развития личности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F577-26B7-46D5-A31B-942217F419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9BFD-AC65-491C-A379-30DDCFF52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9DBB-DC27-4F65-AA13-B2970C93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12D9-84C5-4D47-93C3-B50340F72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2059-D7E6-4E8A-9E43-E7CE3E6E1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9A84-B300-4CB5-819E-E0F08A39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DADB-73CB-4EE8-BCD0-0C844F74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3F53-B519-45D4-8424-07824F9D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0F73-5131-4471-8B78-01EBD098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6D6B-4979-4351-BB8E-01145F6B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3AD9-07AB-48D1-B33C-5DB586AF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FEB0-E2C5-4B6E-B06F-D7A43F51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9A0F-FB32-4AC8-A6F0-46213486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0D7C-4A12-45D5-A944-C1BEF5CC86C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6EED-EF34-4FB1-BE91-ADD07B0491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../../&#1055;&#1088;&#1080;&#1084;&#1077;&#1088;&#1085;&#1099;&#1077;%20&#1079;&#1072;&#1076;&#1072;&#1085;&#1080;&#1103;%20&#1076;&#1083;&#1103;%20&#1091;&#1095;&#1072;&#1097;&#1080;&#1093;&#1089;&#1103;%20&#1088;&#1072;&#1079;&#1085;&#1086;&#1081;%20&#1089;&#1090;&#1077;&#1087;&#1077;&#1085;&#1080;%20&#1091;&#1089;&#1087;&#1077;&#1074;&#1072;&#1077;&#1084;&#1086;&#1089;&#1090;&#1080;.pptx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через индивидуальную работу по географи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во внеурочное врем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Курсовая работа учителя географии МОУ лицея № 10 города Советска Калининградской области Ширшонковой Елены Нколаев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Данная презентация была создана на основе курсовой работы для обеспечения наглядности выступления учителя географии в рамках прохождения учителями естественнонаучных предметов курсовой переподготовки с марта по ноябрь 2008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люч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аким образом, развитие познавательной деятельности можно определить как личностное свойство, которое приобретается, закрепляется и развивается в организованном процессе познания с учетом индивидуальных и возрастных особенностей учащих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основным показателям познавательной активности можно отнес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бильнос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лежа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ознанность уч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ворческие проявл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едение в нестандартных учебных ситуациях; самостоятельность в принятии реш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тератур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ин А.А. приемы педагогической техники: Свобода выбора. Открытость. Деятельность. Обратная связь. Идеальность: Пособие для учителя – М.: Вита – Пресс, 200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дагогические технологии: Учебное пособие /Авт.-сост. Т.П. Сальникова. – М.: ТЦ Сфера, 2008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иротин В.И. Система географических заданий и упражнений как необходимое условие реализации деятельностного подхода при обучении географии. – М.: «География в школе» № 2/2003 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временный урок географии: Методическое разработки уроков / Сост. И.И. Баринова. – М.: Школа – Пресс, 2000 («География в школе». Библиотека журнала. Вып. 3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ttp:/festival.1september/r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ложен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СОБЕННОСТИ ЛИЧНОСТНО – ОРИЕНТИРОВАННОГО УРО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МАТИЧЕСКОЕ ПЛАНИРОВАНИЕ ИНДИВИДУАЛЬНОЙ РАБОТЫ ПО  ГЕОГРАФИИ ( первое полугодие)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МАТИЧЕСКОЕ ПЛАНИРОВАНИЕ ИНДИВИДУАЛЬНОЙ РАБОТЫ ПО  ГЕОГРАФИИ ( второе полугодие)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МЕРНЫЕ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ЗАДАНИ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ДЛЯ УЧАЩИХСЯ РАЗНОЙ СТЕПЕНИ СЛОЖ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ЗУЛЬТАТЫ  ИНДИВИДУАЛЬНОЙ РАБОТЫ ПО ГЕОГРАФИИ С 2005 ГОДА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ЧЕРЕЗ ИНДИВИДУАЛЬНУЮ РАБОТУ ПО ГЕОГРАФ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ВО ВНЕУРОЧНОЕ ВРЕМЯ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настоящее время информационное общество ставит перед школой задачу подготовки социально ориентированных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пускников, которые должны уме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иентироваться в меняющихся жизненных ситуациях, самостоятельно приобретая знания, применяя их на практик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итически мыслить и находить пути решения возникающих пробле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меть работать с информаци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вать свой интеллектуальный и культурный урове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ь работы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казать, что развивать познавательный интерес учащихся возможно не только на уроках географии, но и во внеурочное время через индивидуальные заня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 ГЕОГРАФИИ ЧЕРЕЗ ИСПОЛЬЗОВА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СОВРЕМЕННЫХ ПЕДАГОГИЧЕСКИХ ТЕХНОЛОГ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к предмету возможно через использование современных педагогических технологий, в том числе через личностно-ориентированное обучение, инновационные и игровые технологии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Личностно-ориентированные технологии ставят в центр всей образовательной системы личность обучаемого, обеспечение комфортных, бесконфликтных условий ее развития, реализацию ее природных потенциалов. Ученик при этом – цель образовательной системы, а не средство достижения чего-либо отвлеченног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ольшое значение в повышении качества географического образования играет умение учителя географии организовать учебную деятельность учащихся по практическому применению имеющихся у них теоретических знаний и самостоятельному получению из различных источников знаний, необходимых им для решения поставленных учебных задач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еализация деятельностного подхода в процессе преподавания географии позволяет добиться высокого качества географического образования и подготовить учащихся к использованию своих географических знаний в реальной жизни и практической деятельност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ПОЗНАВАТЕЛЬНОГО ИНТЕРЕСА УЧАЩИХ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ЧЕРЕЗ ИНДИВИДУАЛЬНУЮ РАБОТУ  ПО  ГЕОГРАФ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ВО ВНЕУРОЧНОЕ ВРЕМ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системе современной школы география – единственный предмет, формирующий у школьника комплексное и социально-ориентированное представление о Земле как о планете люде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Знание географии – не только общая культура, но и практические умения, необходимые для жизни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Учитывая особенности современного этапа образования, необходимо целенаправленно активизировать познавательную и мыслительную деятельность учащихся. Этому способствуют универсальные методические приемы и инновационные технологии, которые можно с успехом использовать, как на уроке, так и во внеурочное врем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ндивидуальные дополнительные занятия, часы для которых выделяются Администрацией лицея, имеют своей целью не только развить интерес к предмету у учащихся разного уровня подготовленности, но и подготовку учащихся МОУ лицея № 10 к городским и областным олимпиадам и к городской научно – практической конференции.             Рациональное тематическое планирование позволяет определить основные вопросы каждой темы, наметить наиболее приемлемые для данной темы типы задани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дбирая дидактический материал для каждого занятия, я стараюсь учитывать множество факторов, но в первую очередь индивидуальность каждого учащегося. Часы дополнительного индивидуального обучения способствуют установлению доброжелательного межличностного взаимодействия между учителем и учеником. На этих занятиях учащиеся активно высказываются по обсуждаемой теме, предлагают свои варианты, даже если они отличны от мнения учителя. Обсуждая, все вместе коллективно приходим к общему выводу или решению какой-либо проблемы. При использовании современных технологий, учитель, должен обязательно владеть и смежной профессией – профессией психолог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 подготовке индивидуальных занятий учитывается не только количество материала, который может преподнести учитель, но и необходимость развивать у учащихся вкус к исследовательской деятельности, склонность к выполнению задания повышенной трудности, способность мыслить творчески, логически, и укреплять уверенность учащихся в своих силах. Важным аспектом является научить школьников работать самостоятельно, не бояться делать собственные вывод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спользование активных методов обучения приводит к изменению привычных форм общения между учителем и учеником. Современные педагогические технологии позволяют каждому ученику принять участие в подготовке и проведении занятия, выступить на каком-то этапе в роли учител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гласованная и обоснованная система уроков и дополнительных индивидуальных занятий по географии – важный фактор развития познавательного интереса к предмету, усвоения географической картины мира и развития личности учащихс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5:09:39Z</dcterms:created>
  <dc:creator>user</dc:creator>
  <dc:description/>
  <dc:language>en-US</dc:language>
  <cp:lastModifiedBy>LEGION</cp:lastModifiedBy>
  <dcterms:modified xsi:type="dcterms:W3CDTF">2014-12-29T09:16:36Z</dcterms:modified>
  <cp:revision>11</cp:revision>
  <dc:subject/>
  <dc:title>РАЗВИТИЕ ПОЗНАВАТЕЛЬНОГО ИНТЕРЕСА УЧАЩИХСЯ   ЧЕРЕЗ ИНДИВИДУАЛЬНУЮ РАБОТУ ПО ГЕОГРАФИИ    ВО ВНЕУРОЧНОЕ ВРЕМЯ</dc:title>
</cp:coreProperties>
</file>